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8D33-3468-4392-A1DF-C82AF71D9F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8CC5-06DA-4726-8F0A-D51E996C8ED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3310-EDEB-4686-88EA-2D5727787D5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0D483-94BA-427E-831B-2B685183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265F4-2495-4701-9CEC-1D968DF3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F7632-CD54-4BD5-98DE-4548779A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206D6-D4E1-48D0-A27C-4EEE1A1C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20E90-0406-484C-BCC9-6336A8FB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C8E00-C10D-4EB3-92CE-5569C740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641F0-F671-4C6E-9EF6-374130D9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B766A-878E-4581-B6CD-3264EC36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14155-71C1-4FF4-A13C-47A01218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CB00E-6461-461E-AF6A-EA595E4F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1648A-6209-449E-A4F8-DECCA5ED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FD695-DE8C-4669-AD21-9A1F3188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181D-9191-472E-9865-4E2517C8D9A9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714B-A696-4A3A-8BDC-5564F9BF74DC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B953-FA60-4E38-81A1-B39466A8BCA3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D21B-55DB-4457-AFCF-DBE3EBCB38E8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0372-D532-455F-AEF8-EAB8C0EE51E1}" type="slidenum">
              <a:rPr b="1" lang="ko-KR" sz="1200" spc="-1" strike="noStrike">
                <a:solidFill>
                  <a:srgbClr val="b3d0e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28760" y="24285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HY강B"/>
                <a:ea typeface="HY강B"/>
              </a:rPr>
              <a:t>12</a:t>
            </a:r>
            <a:r>
              <a:rPr b="1" lang="ko-KR" sz="44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 프로그램</a:t>
            </a:r>
            <a:endParaRPr b="0" lang="en-US" sz="44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2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12"/>
          <p:cNvGrpSpPr/>
          <p:nvPr/>
        </p:nvGrpSpPr>
        <p:grpSpPr>
          <a:xfrm>
            <a:off x="142920" y="285840"/>
            <a:ext cx="9001080" cy="5879880"/>
            <a:chOff x="142920" y="285840"/>
            <a:chExt cx="9001080" cy="5879880"/>
          </a:xfrm>
        </p:grpSpPr>
        <p:grpSp>
          <p:nvGrpSpPr>
            <p:cNvPr id="375" name="그룹 15"/>
            <p:cNvGrpSpPr/>
            <p:nvPr/>
          </p:nvGrpSpPr>
          <p:grpSpPr>
            <a:xfrm>
              <a:off x="142920" y="1103400"/>
              <a:ext cx="9001080" cy="3405960"/>
              <a:chOff x="142920" y="1103400"/>
              <a:chExt cx="9001080" cy="3405960"/>
            </a:xfrm>
          </p:grpSpPr>
          <p:sp>
            <p:nvSpPr>
              <p:cNvPr id="376" name="직사각형 6"/>
              <p:cNvSpPr/>
              <p:nvPr/>
            </p:nvSpPr>
            <p:spPr>
              <a:xfrm>
                <a:off x="142920" y="1103400"/>
                <a:ext cx="631836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대상자 선정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AutoShape 2"/>
              <p:cNvSpPr/>
              <p:nvPr/>
            </p:nvSpPr>
            <p:spPr>
              <a:xfrm>
                <a:off x="142920" y="1509480"/>
                <a:ext cx="8967240" cy="2999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8" name="Text Box 25"/>
              <p:cNvSpPr/>
              <p:nvPr/>
            </p:nvSpPr>
            <p:spPr>
              <a:xfrm>
                <a:off x="142920" y="1557360"/>
                <a:ext cx="900108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자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누가 대상이 되고 누가 제외될 것인가를 결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 집단 추출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제나 욕구를 지닌 것으로 판단되는 해당지역 전체 대상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험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집단 중에서 문제에 취약하거나 문제나 욕구가 심각한 인구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표적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대상자로서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자격요건을 갖춘 사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에 실제 참여할 인구 집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클라이언트 집단 선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원범위를 고려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에 자발적 동의를 한 대상자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선정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 참여의 혜택을 얻을 수 있는 능력이 있는 대상자를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러한 주된 참여자 이외에 도움을 주거나 함께 참여하는 주변적 참여자 규정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9" name="직사각형 10"/>
            <p:cNvSpPr/>
            <p:nvPr/>
          </p:nvSpPr>
          <p:spPr>
            <a:xfrm>
              <a:off x="214200" y="4616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자원체계 확인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0" name="Text Box 25"/>
            <p:cNvSpPr/>
            <p:nvPr/>
          </p:nvSpPr>
          <p:spPr>
            <a:xfrm>
              <a:off x="290520" y="5021280"/>
              <a:ext cx="88534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대상자 선정을 위해서는 조직의 자원동원과 관리능력 검토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인적 및 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에 대한 검토가 이루어져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또한 조직에 대한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WOT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약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협요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분석이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1" name="AutoShape 2"/>
            <p:cNvSpPr/>
            <p:nvPr/>
          </p:nvSpPr>
          <p:spPr>
            <a:xfrm>
              <a:off x="142920" y="5022720"/>
              <a:ext cx="882036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AutoShape 4"/>
            <p:cNvSpPr/>
            <p:nvPr/>
          </p:nvSpPr>
          <p:spPr>
            <a:xfrm>
              <a:off x="357120" y="28584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대상자 선정과 자원체계 확인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그룹 7"/>
          <p:cNvGrpSpPr/>
          <p:nvPr/>
        </p:nvGrpSpPr>
        <p:grpSpPr>
          <a:xfrm>
            <a:off x="142920" y="214200"/>
            <a:ext cx="9001080" cy="6154200"/>
            <a:chOff x="142920" y="214200"/>
            <a:chExt cx="9001080" cy="6154200"/>
          </a:xfrm>
        </p:grpSpPr>
        <p:sp>
          <p:nvSpPr>
            <p:cNvPr id="384" name="AutoShape 2"/>
            <p:cNvSpPr/>
            <p:nvPr/>
          </p:nvSpPr>
          <p:spPr>
            <a:xfrm>
              <a:off x="214200" y="3500280"/>
              <a:ext cx="8820360" cy="2857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5" name="AutoShape 2"/>
            <p:cNvSpPr/>
            <p:nvPr/>
          </p:nvSpPr>
          <p:spPr>
            <a:xfrm>
              <a:off x="142920" y="785520"/>
              <a:ext cx="88203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6" name="Text Box 25"/>
            <p:cNvSpPr/>
            <p:nvPr/>
          </p:nvSpPr>
          <p:spPr>
            <a:xfrm>
              <a:off x="142920" y="85716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의 이념과 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목적으로부터 논리적으로 유추한 프로그램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궁극적 지향점을 추상적 진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어진 시간 내에 프로그램이 성취하고자 하는 결과와 영향의 구체적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위계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간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en-US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ko-KR" sz="1800" spc="-1" strike="noStrike">
                  <a:solidFill>
                    <a:srgbClr val="174578"/>
                  </a:solidFill>
                  <a:latin typeface="Wingdings"/>
                  <a:ea typeface="Wingdings"/>
                </a:rPr>
                <a:t>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향목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가 갖추어야 할 조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464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의 진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 SMART(specific, measurable, attainable, result-oriented, time frame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7" name="Text Box 25"/>
            <p:cNvSpPr/>
            <p:nvPr/>
          </p:nvSpPr>
          <p:spPr>
            <a:xfrm>
              <a:off x="290520" y="3500280"/>
              <a:ext cx="8853480" cy="28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달성방법을 모색하기 위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if-then’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프로그램 가설 설정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가설에 근거하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구성을 위한 개입과 서비스 형태 설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입 및 서비스 형태 모색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발자의 지식에 근거한 창의적 아이디어 필요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를 위해 기존 사례집 참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장방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브레인스토밍 등의 기법 활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히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see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think &amp; do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정리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창의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py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 필요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 서비스와 개입의 우선순위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능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일치도 등 고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세부 내용의 최종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합목적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포괄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실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성의 기준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 선정과정을 체계적으로 밟는 것도 중요하지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보다 참여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견이 중요하므로 참여자를 대상으로 사전 의견수렴과 조정 작업이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8" name="AutoShape 4"/>
            <p:cNvSpPr/>
            <p:nvPr/>
          </p:nvSpPr>
          <p:spPr>
            <a:xfrm>
              <a:off x="357120" y="21420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목적과 목표설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>
              <a:off x="357120" y="2928960"/>
              <a:ext cx="61437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자료수집과 프로그램 내용 선정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2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실행계획의 수립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Text Box 6"/>
            <p:cNvSpPr/>
            <p:nvPr/>
          </p:nvSpPr>
          <p:spPr>
            <a:xfrm>
              <a:off x="285840" y="1095480"/>
              <a:ext cx="8643960" cy="50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내용의 조직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속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계열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통합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양성의 원리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근거로 세부 내용을 배열하고 조직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부 프로그램 내용의 실행을 위한 구체적 방법과 시간계획 수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PERT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Gantt chart, Shed-U Graph, Flow chart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구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담당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도감독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문위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조인력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봉사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수행인력 역할분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6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하원칙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5W 1H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거 상세 분담계획수립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재정자원계획과 조달방법 계획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품목별 예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과주의 예산 등 활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서를 작성하여 조직관리자의 승인을 받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부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종사자와 긴밀한 협조관계를 유지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5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7) 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실행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285840" y="1095480"/>
              <a:ext cx="8643960" cy="52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계획에 얽매여 목적전치현상이 발생하지 않도록 유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지속적 점검과 수정 보완 필요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점검항목 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9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성공 실행을 위해 적정 규모의 참여자 확보가 필수적이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평상시의 원만한 관계형성과 신뢰감 구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리고 프로그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에 대한 적극적 권유가 필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진행과 관련된 조직상황 특히 적정 예산과 인력의 확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서와 종사자와의 협조체계 형성이 중요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안정화단계에서도 조직 내외부의 상황변화에 따른 장애요인 파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자 호응도 등에 대한 점검과 수정보완 작업이 필수적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직에서도 프로그램 담당자에 대한 지지 분위기 조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객관적 평가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환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수퍼비전을 제공해야 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99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0" name="AutoShape 4"/>
            <p:cNvSpPr/>
            <p:nvPr/>
          </p:nvSpPr>
          <p:spPr>
            <a:xfrm>
              <a:off x="357120" y="285840"/>
              <a:ext cx="442908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8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평가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Text Box 6"/>
            <p:cNvSpPr/>
            <p:nvPr/>
          </p:nvSpPr>
          <p:spPr>
            <a:xfrm>
              <a:off x="285840" y="10954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특정 개입이나 프로그램의 목적 성취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비용은 효율적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집행되었는지를 기준으로 프로그램의 성공 여부를 결정하는 체계적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의 필요성과 효과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71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를 위한 논리모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정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총괄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=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 평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성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달성모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목적의 달성과 실패 수준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 +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모델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이  클라이언트에게 미친 영향 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율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투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효과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편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/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형성평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수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변경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축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폐지 여부 등을 결정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위해 활용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효과나 부작용 등의 발생경로 확인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에 영향을 미친 운영절차와 자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전달과정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등의 확인 가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그룹 7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40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6.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제안서 작성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2"/>
            <p:cNvSpPr/>
            <p:nvPr/>
          </p:nvSpPr>
          <p:spPr>
            <a:xfrm>
              <a:off x="285480" y="1214280"/>
              <a:ext cx="8715600" cy="5000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06" name="그룹 10"/>
            <p:cNvGrpSpPr/>
            <p:nvPr/>
          </p:nvGrpSpPr>
          <p:grpSpPr>
            <a:xfrm>
              <a:off x="285480" y="857160"/>
              <a:ext cx="8643960" cy="5147280"/>
              <a:chOff x="285480" y="857160"/>
              <a:chExt cx="8643960" cy="5147280"/>
            </a:xfrm>
          </p:grpSpPr>
          <p:sp>
            <p:nvSpPr>
              <p:cNvPr id="407" name="AutoShape 4"/>
              <p:cNvSpPr/>
              <p:nvPr/>
            </p:nvSpPr>
            <p:spPr>
              <a:xfrm>
                <a:off x="356760" y="857160"/>
                <a:ext cx="535788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제안서의 개념과 의의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8" name="Text Box 6"/>
              <p:cNvSpPr/>
              <p:nvPr/>
            </p:nvSpPr>
            <p:spPr>
              <a:xfrm>
                <a:off x="285480" y="1428480"/>
                <a:ext cx="8643960" cy="45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족한 재원확보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가 개발하고 기획한 프로그램의 실체로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의 전문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동원 수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 달성의 방법 등이 포괄적이면서도 구체적으로 담겨 있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의 서비스와 실천의 기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공동모금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기업복지재단 심지어 중앙 및 지방정부에서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공모사업을 통해 조직간 경쟁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서비스 질 향상 및 기금 배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투명성 확보를 위해 프로그램 제안서 활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조직이 외부 재정지원기관에 프로그램 제안서를 제출하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 목적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업 수행에 필요한 재원의 확보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를 거듭할수록 심사기준이 엄격해지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간 경쟁이 치열해지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직의 프로그램 제안서 작성 역량이 곧 조직의 성패를 가름할 정도로 중요해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따라서 사회복지조직과 사회복지사는 프로그램 제안서 작성에 관한 지식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을 갖추어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그룹 9"/>
          <p:cNvGrpSpPr/>
          <p:nvPr/>
        </p:nvGrpSpPr>
        <p:grpSpPr>
          <a:xfrm>
            <a:off x="142920" y="285840"/>
            <a:ext cx="9001080" cy="6143400"/>
            <a:chOff x="142920" y="285840"/>
            <a:chExt cx="9001080" cy="6143400"/>
          </a:xfrm>
        </p:grpSpPr>
        <p:sp>
          <p:nvSpPr>
            <p:cNvPr id="410" name="AutoShape 4"/>
            <p:cNvSpPr/>
            <p:nvPr/>
          </p:nvSpPr>
          <p:spPr>
            <a:xfrm>
              <a:off x="357120" y="285840"/>
              <a:ext cx="471492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직사각형 5"/>
            <p:cNvSpPr/>
            <p:nvPr/>
          </p:nvSpPr>
          <p:spPr>
            <a:xfrm>
              <a:off x="142920" y="11034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개요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2" name="AutoShape 2"/>
            <p:cNvSpPr/>
            <p:nvPr/>
          </p:nvSpPr>
          <p:spPr>
            <a:xfrm>
              <a:off x="142920" y="150948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Text Box 25"/>
            <p:cNvSpPr/>
            <p:nvPr/>
          </p:nvSpPr>
          <p:spPr>
            <a:xfrm>
              <a:off x="142920" y="150336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 관한 사항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법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외부지원금 현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사업과 유사사업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수행경험 등을 기입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관의 유사사업 수행경험을 강조해서 제시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one paper proposal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정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방법이 제시되어야 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희망과 시대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슈를 반영한 독창적 형태로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친 독창성으로 사업대상과 내용 파악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계가 발생하는 것은 바람직하지 못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필요시 부제를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 외에 프로그램 필요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의 특성과 규모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과 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요 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력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등 간략히 기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직사각형 8"/>
            <p:cNvSpPr/>
            <p:nvPr/>
          </p:nvSpPr>
          <p:spPr>
            <a:xfrm>
              <a:off x="142920" y="42609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필요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AutoShape 2"/>
            <p:cNvSpPr/>
            <p:nvPr/>
          </p:nvSpPr>
          <p:spPr>
            <a:xfrm>
              <a:off x="142920" y="4653000"/>
              <a:ext cx="8967960" cy="1776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42920" y="4726080"/>
              <a:ext cx="900108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제를 기존 이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계자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구자료를 근거로 객관적 주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실시 예정 지역의 환경 특성 역시 객관적으로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에서 기존에 실시한 유사사업 경험과 결과를 상세히 기술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사회 자원이나 서비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족자원에 대해서도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의 기대효과를 제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그룹 15"/>
          <p:cNvGrpSpPr/>
          <p:nvPr/>
        </p:nvGrpSpPr>
        <p:grpSpPr>
          <a:xfrm>
            <a:off x="142920" y="428760"/>
            <a:ext cx="9153360" cy="5929920"/>
            <a:chOff x="142920" y="428760"/>
            <a:chExt cx="9153360" cy="5929920"/>
          </a:xfrm>
        </p:grpSpPr>
        <p:sp>
          <p:nvSpPr>
            <p:cNvPr id="418" name="AutoShape 2"/>
            <p:cNvSpPr/>
            <p:nvPr/>
          </p:nvSpPr>
          <p:spPr>
            <a:xfrm>
              <a:off x="142920" y="3786840"/>
              <a:ext cx="8967240" cy="2571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직사각형 5"/>
            <p:cNvSpPr/>
            <p:nvPr/>
          </p:nvSpPr>
          <p:spPr>
            <a:xfrm>
              <a:off x="142920" y="42876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대상자 선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AutoShape 2"/>
            <p:cNvSpPr/>
            <p:nvPr/>
          </p:nvSpPr>
          <p:spPr>
            <a:xfrm>
              <a:off x="142920" y="785880"/>
              <a:ext cx="8967240" cy="8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142920" y="857160"/>
              <a:ext cx="900108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논리적 타당성과 객관적 자료를 기준으로 일반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기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표적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클라이언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단으로 범위를 좁혀가며 제시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직사각형 8"/>
            <p:cNvSpPr/>
            <p:nvPr/>
          </p:nvSpPr>
          <p:spPr>
            <a:xfrm>
              <a:off x="142920" y="18576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의 목적과 목표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AutoShape 2"/>
            <p:cNvSpPr/>
            <p:nvPr/>
          </p:nvSpPr>
          <p:spPr>
            <a:xfrm>
              <a:off x="142920" y="2214720"/>
              <a:ext cx="8967240" cy="1071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4" name="Text Box 25"/>
            <p:cNvSpPr/>
            <p:nvPr/>
          </p:nvSpPr>
          <p:spPr>
            <a:xfrm>
              <a:off x="142920" y="2214720"/>
              <a:ext cx="900108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3-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행으로 포괄적이고 추상적인 미래의 바람직한 상태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SMART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 원칙에 따라 상세히 기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근에는 산출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put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목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outcome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을 요구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직사각형 11"/>
            <p:cNvSpPr/>
            <p:nvPr/>
          </p:nvSpPr>
          <p:spPr>
            <a:xfrm>
              <a:off x="142920" y="340380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사업 내용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Text Box 25"/>
            <p:cNvSpPr/>
            <p:nvPr/>
          </p:nvSpPr>
          <p:spPr>
            <a:xfrm>
              <a:off x="295200" y="3786480"/>
              <a:ext cx="90010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평가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활용계획을 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부사업내용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5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표 평가방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6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담당인력 구성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7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진행일정의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8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홍보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9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역자원 동원 계획의 기술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그룹 11"/>
          <p:cNvGrpSpPr/>
          <p:nvPr/>
        </p:nvGrpSpPr>
        <p:grpSpPr>
          <a:xfrm>
            <a:off x="71280" y="357120"/>
            <a:ext cx="9072720" cy="6452640"/>
            <a:chOff x="71280" y="357120"/>
            <a:chExt cx="9072720" cy="6452640"/>
          </a:xfrm>
        </p:grpSpPr>
        <p:sp>
          <p:nvSpPr>
            <p:cNvPr id="428" name="직사각형 5"/>
            <p:cNvSpPr/>
            <p:nvPr/>
          </p:nvSpPr>
          <p:spPr>
            <a:xfrm>
              <a:off x="142560" y="35712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예산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"/>
            <p:cNvSpPr/>
            <p:nvPr/>
          </p:nvSpPr>
          <p:spPr>
            <a:xfrm>
              <a:off x="142560" y="714240"/>
              <a:ext cx="8967960" cy="2562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Text Box 25"/>
            <p:cNvSpPr/>
            <p:nvPr/>
          </p:nvSpPr>
          <p:spPr>
            <a:xfrm>
              <a:off x="142560" y="785520"/>
              <a:ext cx="900144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예산 수립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항목별 예산수립방식 주로 활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건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조자 인건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사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준비물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리운영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교통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무용품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공요금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각 항목은 세부 항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으로 구분하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나치게 상세한 작성은 바람직하지 않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=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신청예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체예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업수행 의지 표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달방법도 구체 제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목별 소요예산을 명확한 산출근거에 입각하여 제시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필요한 예산 편성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안서 평가에 부정적 결과를 초래할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산 계획의 작성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2-11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직사각형 8"/>
            <p:cNvSpPr/>
            <p:nvPr/>
          </p:nvSpPr>
          <p:spPr>
            <a:xfrm>
              <a:off x="142560" y="3500280"/>
              <a:ext cx="6318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향후 계획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2" name="AutoShape 2"/>
            <p:cNvSpPr/>
            <p:nvPr/>
          </p:nvSpPr>
          <p:spPr>
            <a:xfrm>
              <a:off x="142560" y="3857760"/>
              <a:ext cx="8967960" cy="1643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3" name="Text Box 25"/>
            <p:cNvSpPr/>
            <p:nvPr/>
          </p:nvSpPr>
          <p:spPr>
            <a:xfrm>
              <a:off x="142560" y="3929040"/>
              <a:ext cx="9001440" cy="16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기관은 사업기간이 종료되면 투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산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을 체계적으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하여 지속적 재정지원 여부 결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가항목 교재 참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따라서 차기년도 주요 계획과 이에 따른 자원 확보 방안을 제시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정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단시 기관 자체 노력으로 프로그램을 지속 실행할 수 있는 자구방안과 계획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제시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34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435" name="Picture 4" descr="C:\DOCUME~1\USER\LOCALS~1\Temp\UNI000006c8818c.gif"/>
              <p:cNvPicPr/>
              <p:nvPr/>
            </p:nvPicPr>
            <p:blipFill>
              <a:blip r:embed="rId1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실천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8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289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개념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특성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,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정책과 서비스와의 관계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90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291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296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301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306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10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의 조건과 활용 가능한 프로그램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1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개발 과정과 단계별 과업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2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프로그램 제안서 작성방법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13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  <a:ea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00120" y="274680"/>
            <a:ext cx="746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2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 프로그램</a:t>
            </a:r>
            <a:endParaRPr b="0" lang="en-US" sz="3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그룹 12"/>
          <p:cNvGrpSpPr/>
          <p:nvPr/>
        </p:nvGrpSpPr>
        <p:grpSpPr>
          <a:xfrm>
            <a:off x="0" y="0"/>
            <a:ext cx="9144000" cy="6286680"/>
            <a:chOff x="0" y="0"/>
            <a:chExt cx="9144000" cy="6286680"/>
          </a:xfrm>
        </p:grpSpPr>
        <p:pic>
          <p:nvPicPr>
            <p:cNvPr id="31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2"/>
            <p:cNvSpPr/>
            <p:nvPr/>
          </p:nvSpPr>
          <p:spPr>
            <a:xfrm>
              <a:off x="1214280" y="142560"/>
              <a:ext cx="77155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의 개념과 특성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8" name="그룹 20"/>
            <p:cNvGrpSpPr/>
            <p:nvPr/>
          </p:nvGrpSpPr>
          <p:grpSpPr>
            <a:xfrm>
              <a:off x="142560" y="928440"/>
              <a:ext cx="9001440" cy="5358240"/>
              <a:chOff x="142560" y="928440"/>
              <a:chExt cx="9001440" cy="5358240"/>
            </a:xfrm>
          </p:grpSpPr>
          <p:grpSp>
            <p:nvGrpSpPr>
              <p:cNvPr id="319" name="그룹 10"/>
              <p:cNvGrpSpPr/>
              <p:nvPr/>
            </p:nvGrpSpPr>
            <p:grpSpPr>
              <a:xfrm>
                <a:off x="252000" y="1999800"/>
                <a:ext cx="8892000" cy="1377000"/>
                <a:chOff x="252000" y="1999800"/>
                <a:chExt cx="8892000" cy="1377000"/>
              </a:xfrm>
            </p:grpSpPr>
            <p:sp>
              <p:nvSpPr>
                <p:cNvPr id="320" name="AutoShape 2"/>
                <p:cNvSpPr/>
                <p:nvPr/>
              </p:nvSpPr>
              <p:spPr>
                <a:xfrm>
                  <a:off x="252000" y="1999800"/>
                  <a:ext cx="8820720" cy="1357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1" name="Text Box 25"/>
                <p:cNvSpPr/>
                <p:nvPr/>
              </p:nvSpPr>
              <p:spPr>
                <a:xfrm>
                  <a:off x="289800" y="2071080"/>
                  <a:ext cx="8854200" cy="13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말 뜻</a:t>
                  </a:r>
                  <a:r>
                    <a:rPr b="0" lang="en-US" sz="18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앞으로 해야 할 일을 명시해 놓은 시간표와 예정 계획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정책이나 조직 목적달성을 위한 활동체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c00000"/>
                      </a:solidFill>
                      <a:latin typeface="HY강M"/>
                      <a:ea typeface="HY강M"/>
                    </a:rPr>
                    <a:t>노인복지 프로그램의 개념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노인복지정책과 노인복지 조직의 특정한 목적달성을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위하여 자원과 기술을 투입하여 수행하는 계획적이고 조직적인 활동체계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AutoShape 4"/>
              <p:cNvSpPr/>
              <p:nvPr/>
            </p:nvSpPr>
            <p:spPr>
              <a:xfrm>
                <a:off x="356760" y="928440"/>
                <a:ext cx="407196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의 개념과 특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3" name="직사각형 9"/>
              <p:cNvSpPr/>
              <p:nvPr/>
            </p:nvSpPr>
            <p:spPr>
              <a:xfrm>
                <a:off x="142560" y="16030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의 개념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직사각형 16"/>
              <p:cNvSpPr/>
              <p:nvPr/>
            </p:nvSpPr>
            <p:spPr>
              <a:xfrm>
                <a:off x="142560" y="3460680"/>
                <a:ext cx="6215400" cy="3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  </a:t>
                </a:r>
                <a:r>
                  <a:rPr b="0" lang="ko-KR" sz="2100" spc="-1" strike="noStrike">
                    <a:solidFill>
                      <a:srgbClr val="c00000"/>
                    </a:solidFill>
                    <a:latin typeface="Arial"/>
                    <a:ea typeface="HY강B"/>
                  </a:rPr>
                  <a:t>프로그램과 유사개념의 구분</a:t>
                </a:r>
                <a:endParaRPr b="0" lang="en-US" sz="21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AutoShape 2"/>
              <p:cNvSpPr/>
              <p:nvPr/>
            </p:nvSpPr>
            <p:spPr>
              <a:xfrm>
                <a:off x="180360" y="3857760"/>
                <a:ext cx="8820720" cy="2428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6" name="Text Box 25"/>
              <p:cNvSpPr/>
              <p:nvPr/>
            </p:nvSpPr>
            <p:spPr>
              <a:xfrm>
                <a:off x="218520" y="3929040"/>
                <a:ext cx="8853840" cy="224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프로그램 그리고 서비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af334e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무엇이 되어야 하는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목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어떻게 그것을 실현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수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63e6a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서비스와 실천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클라이언트에게 무엇을 제공할 것인가</a:t>
                </a:r>
                <a:r>
                  <a:rPr b="0" lang="en-US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?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라는 원조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프로그램과 프로젝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속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러 개의 목표를 달성하기 위한 다수의 프로젝트의 집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프로젝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간제한적이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가지 목표달성을 위한 특정과업이나 활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그룹 13"/>
          <p:cNvGrpSpPr/>
          <p:nvPr/>
        </p:nvGrpSpPr>
        <p:grpSpPr>
          <a:xfrm>
            <a:off x="142920" y="357120"/>
            <a:ext cx="8853480" cy="5786640"/>
            <a:chOff x="142920" y="357120"/>
            <a:chExt cx="8853480" cy="5786640"/>
          </a:xfrm>
        </p:grpSpPr>
        <p:sp>
          <p:nvSpPr>
            <p:cNvPr id="328" name="AutoShape 2"/>
            <p:cNvSpPr/>
            <p:nvPr/>
          </p:nvSpPr>
          <p:spPr>
            <a:xfrm>
              <a:off x="142920" y="3429000"/>
              <a:ext cx="882036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9" name="직사각형 6"/>
            <p:cNvSpPr/>
            <p:nvPr/>
          </p:nvSpPr>
          <p:spPr>
            <a:xfrm>
              <a:off x="142920" y="35712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특성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AutoShape 2"/>
            <p:cNvSpPr/>
            <p:nvPr/>
          </p:nvSpPr>
          <p:spPr>
            <a:xfrm>
              <a:off x="142920" y="857160"/>
              <a:ext cx="8820360" cy="1928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Text Box 25"/>
            <p:cNvSpPr/>
            <p:nvPr/>
          </p:nvSpPr>
          <p:spPr>
            <a:xfrm>
              <a:off x="142920" y="844200"/>
              <a:ext cx="8853480" cy="19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프로그램의 구성요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목적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원과 기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획적 활동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직이나 정책의 목적이나 이념을 충실히 반영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프로그램 자체의 목적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다 구체적인 목표로 세분화하여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자원과 기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복지사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봉사자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물적 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비 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술자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이론과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계획적 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련의 계획된 서비스와 원조활동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치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care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2" name="직사각형 10"/>
            <p:cNvSpPr/>
            <p:nvPr/>
          </p:nvSpPr>
          <p:spPr>
            <a:xfrm>
              <a:off x="142920" y="296064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프로그램의 유형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25"/>
            <p:cNvSpPr/>
            <p:nvPr/>
          </p:nvSpPr>
          <p:spPr>
            <a:xfrm>
              <a:off x="142920" y="3494160"/>
              <a:ext cx="8853480" cy="25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분류 기준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누구에게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상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엇을 제공할 것인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?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 형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대상에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따른 분류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수단 검중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산과 소득을 근거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위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의 사회적 위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를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상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참여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성과 등의 보상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진단기준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가의 판단을 기준으로 참여자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서비스 형태에 따른 분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7457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회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이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물지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그룹 7"/>
          <p:cNvGrpSpPr/>
          <p:nvPr/>
        </p:nvGrpSpPr>
        <p:grpSpPr>
          <a:xfrm>
            <a:off x="0" y="0"/>
            <a:ext cx="9144000" cy="6072120"/>
            <a:chOff x="0" y="0"/>
            <a:chExt cx="9144000" cy="6072120"/>
          </a:xfrm>
        </p:grpSpPr>
        <p:pic>
          <p:nvPicPr>
            <p:cNvPr id="33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Rectangle 2"/>
            <p:cNvSpPr/>
            <p:nvPr/>
          </p:nvSpPr>
          <p:spPr>
            <a:xfrm>
              <a:off x="1428480" y="142560"/>
              <a:ext cx="75726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이 갖추어야 할 조건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37" name="그룹 17"/>
            <p:cNvGrpSpPr/>
            <p:nvPr/>
          </p:nvGrpSpPr>
          <p:grpSpPr>
            <a:xfrm>
              <a:off x="214200" y="1714320"/>
              <a:ext cx="8606160" cy="4357800"/>
              <a:chOff x="214200" y="1714320"/>
              <a:chExt cx="8606160" cy="4357800"/>
            </a:xfrm>
          </p:grpSpPr>
          <p:sp>
            <p:nvSpPr>
              <p:cNvPr id="338" name="AutoShape 2"/>
              <p:cNvSpPr/>
              <p:nvPr/>
            </p:nvSpPr>
            <p:spPr>
              <a:xfrm>
                <a:off x="214200" y="1714320"/>
                <a:ext cx="8606160" cy="4357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9" name="Text Box 25"/>
              <p:cNvSpPr/>
              <p:nvPr/>
            </p:nvSpPr>
            <p:spPr>
              <a:xfrm>
                <a:off x="285480" y="1788840"/>
                <a:ext cx="8358840" cy="40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접근 용이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지속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적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포괄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통합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공평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비용의 적절성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84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4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평가와 </a:t>
                </a:r>
                <a:r>
                  <a:rPr b="0" lang="ko-KR" sz="22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환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0" name="직사각형 21"/>
            <p:cNvSpPr/>
            <p:nvPr/>
          </p:nvSpPr>
          <p:spPr>
            <a:xfrm>
              <a:off x="142560" y="117468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  <a:ea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  <a:ea typeface="HY강B"/>
                </a:rPr>
                <a:t>노인복지 프로그램의 조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그룹 11"/>
          <p:cNvGrpSpPr/>
          <p:nvPr/>
        </p:nvGrpSpPr>
        <p:grpSpPr>
          <a:xfrm>
            <a:off x="0" y="0"/>
            <a:ext cx="9215280" cy="6143760"/>
            <a:chOff x="0" y="0"/>
            <a:chExt cx="9215280" cy="6143760"/>
          </a:xfrm>
        </p:grpSpPr>
        <p:pic>
          <p:nvPicPr>
            <p:cNvPr id="34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Rectangle 2"/>
            <p:cNvSpPr/>
            <p:nvPr/>
          </p:nvSpPr>
          <p:spPr>
            <a:xfrm>
              <a:off x="1428480" y="142560"/>
              <a:ext cx="7786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3. </a:t>
              </a:r>
              <a:r>
                <a:rPr b="1" lang="ko-KR" sz="30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조직에서 활용 가능한 프로그램</a:t>
              </a:r>
              <a:endParaRPr b="0" lang="en-US" sz="3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AutoShape 2"/>
            <p:cNvSpPr/>
            <p:nvPr/>
          </p:nvSpPr>
          <p:spPr>
            <a:xfrm>
              <a:off x="285480" y="5119920"/>
              <a:ext cx="8715240" cy="1023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5" name="그룹 10"/>
            <p:cNvGrpSpPr/>
            <p:nvPr/>
          </p:nvGrpSpPr>
          <p:grpSpPr>
            <a:xfrm>
              <a:off x="285480" y="4594320"/>
              <a:ext cx="8858160" cy="1442520"/>
              <a:chOff x="285480" y="4594320"/>
              <a:chExt cx="8858160" cy="1442520"/>
            </a:xfrm>
          </p:grpSpPr>
          <p:sp>
            <p:nvSpPr>
              <p:cNvPr id="346" name="AutoShape 4"/>
              <p:cNvSpPr/>
              <p:nvPr/>
            </p:nvSpPr>
            <p:spPr>
              <a:xfrm>
                <a:off x="360000" y="4594320"/>
                <a:ext cx="4649760" cy="47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관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7" name="Text Box 6"/>
              <p:cNvSpPr/>
              <p:nvPr/>
            </p:nvSpPr>
            <p:spPr>
              <a:xfrm>
                <a:off x="285480" y="5256720"/>
                <a:ext cx="8858160" cy="78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사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수행을 위한 프로그램은 매우 다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관의 주요 프로그램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4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8" name="AutoShape 2"/>
            <p:cNvSpPr/>
            <p:nvPr/>
          </p:nvSpPr>
          <p:spPr>
            <a:xfrm>
              <a:off x="285480" y="1571400"/>
              <a:ext cx="8715240" cy="2714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9" name="그룹 10"/>
            <p:cNvGrpSpPr/>
            <p:nvPr/>
          </p:nvGrpSpPr>
          <p:grpSpPr>
            <a:xfrm>
              <a:off x="285480" y="1071360"/>
              <a:ext cx="8643960" cy="3115080"/>
              <a:chOff x="285480" y="1071360"/>
              <a:chExt cx="8643960" cy="3115080"/>
            </a:xfrm>
          </p:grpSpPr>
          <p:sp>
            <p:nvSpPr>
              <p:cNvPr id="350" name="AutoShape 4"/>
              <p:cNvSpPr/>
              <p:nvPr/>
            </p:nvSpPr>
            <p:spPr>
              <a:xfrm>
                <a:off x="356760" y="1071360"/>
                <a:ext cx="47862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노인복지시설의 프로그램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1" name="Text Box 6"/>
              <p:cNvSpPr/>
              <p:nvPr/>
            </p:nvSpPr>
            <p:spPr>
              <a:xfrm>
                <a:off x="285480" y="1714320"/>
                <a:ext cx="864396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의 인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 등의 한계로 전문 프로그램 실시에 한계가 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시와 함께 시설만족도 증가 등의 긍정적 효과 나타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적 일상생활 케어 이외에 특수한 프로그램 실시가 필요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문지식과 기술 활용한 프로그램 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엇을 어떻게 잘 할 것인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?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요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수준이 다소 낮더라도 노인이 원하는 것을 한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자세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더욱 바람직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에서 활용 가능한 프로그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그룹 11"/>
          <p:cNvGrpSpPr/>
          <p:nvPr/>
        </p:nvGrpSpPr>
        <p:grpSpPr>
          <a:xfrm>
            <a:off x="0" y="0"/>
            <a:ext cx="9358200" cy="6000840"/>
            <a:chOff x="0" y="0"/>
            <a:chExt cx="9358200" cy="6000840"/>
          </a:xfrm>
        </p:grpSpPr>
        <p:pic>
          <p:nvPicPr>
            <p:cNvPr id="35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Rectangle 2"/>
            <p:cNvSpPr/>
            <p:nvPr/>
          </p:nvSpPr>
          <p:spPr>
            <a:xfrm>
              <a:off x="1357200" y="142560"/>
              <a:ext cx="80010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4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개념과 모형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5" name="AutoShape 2"/>
            <p:cNvSpPr/>
            <p:nvPr/>
          </p:nvSpPr>
          <p:spPr>
            <a:xfrm>
              <a:off x="285480" y="4691160"/>
              <a:ext cx="8715600" cy="13096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6" name="그룹 10"/>
            <p:cNvGrpSpPr/>
            <p:nvPr/>
          </p:nvGrpSpPr>
          <p:grpSpPr>
            <a:xfrm>
              <a:off x="285480" y="4214880"/>
              <a:ext cx="8572680" cy="1678320"/>
              <a:chOff x="285480" y="4214880"/>
              <a:chExt cx="8572680" cy="1678320"/>
            </a:xfrm>
          </p:grpSpPr>
          <p:sp>
            <p:nvSpPr>
              <p:cNvPr id="357" name="AutoShape 4"/>
              <p:cNvSpPr/>
              <p:nvPr/>
            </p:nvSpPr>
            <p:spPr>
              <a:xfrm>
                <a:off x="356760" y="4214880"/>
                <a:ext cx="414360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모형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85480" y="4808520"/>
                <a:ext cx="857268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의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P: purpose, person, problem, process, place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모형별 단계와 프로그램 개발자의 주요과업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2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59" name="AutoShape 2"/>
            <p:cNvSpPr/>
            <p:nvPr/>
          </p:nvSpPr>
          <p:spPr>
            <a:xfrm>
              <a:off x="285480" y="1500120"/>
              <a:ext cx="8715600" cy="2357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0" name="그룹 10"/>
            <p:cNvGrpSpPr/>
            <p:nvPr/>
          </p:nvGrpSpPr>
          <p:grpSpPr>
            <a:xfrm>
              <a:off x="214200" y="928440"/>
              <a:ext cx="8858160" cy="2840040"/>
              <a:chOff x="214200" y="928440"/>
              <a:chExt cx="8858160" cy="2840040"/>
            </a:xfrm>
          </p:grpSpPr>
          <p:sp>
            <p:nvSpPr>
              <p:cNvPr id="361" name="AutoShape 4"/>
              <p:cNvSpPr/>
              <p:nvPr/>
            </p:nvSpPr>
            <p:spPr>
              <a:xfrm>
                <a:off x="356760" y="928440"/>
                <a:ext cx="414324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  <a:ea typeface="HY강B"/>
                  </a:rPr>
                  <a:t>프로그램 개발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2" name="Text Box 6"/>
              <p:cNvSpPr/>
              <p:nvPr/>
            </p:nvSpPr>
            <p:spPr>
              <a:xfrm>
                <a:off x="214200" y="1769760"/>
                <a:ext cx="8858160" cy="19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개발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만들거나 기존 프로그램을 개선하려는 노력과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정 또는 새로운 프로그램의 기획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planning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design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로 사용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프로그램을 개발하는 과정은 물론이고 기존 프로그램의 수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완을 위한 과정까지를 포함하여 단계적으로 프로그램의 기획과 설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가 등의 전 단계를 총망라하는 노력과 과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2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그룹 7"/>
          <p:cNvGrpSpPr/>
          <p:nvPr/>
        </p:nvGrpSpPr>
        <p:grpSpPr>
          <a:xfrm>
            <a:off x="0" y="0"/>
            <a:ext cx="9358200" cy="6715080"/>
            <a:chOff x="0" y="0"/>
            <a:chExt cx="9358200" cy="6715080"/>
          </a:xfrm>
        </p:grpSpPr>
        <p:pic>
          <p:nvPicPr>
            <p:cNvPr id="36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5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노인복지 프로그램 개발의 과정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6" name="AutoShape 2"/>
            <p:cNvSpPr/>
            <p:nvPr/>
          </p:nvSpPr>
          <p:spPr>
            <a:xfrm>
              <a:off x="285480" y="1285920"/>
              <a:ext cx="8715600" cy="37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7" name="AutoShape 4"/>
            <p:cNvSpPr/>
            <p:nvPr/>
          </p:nvSpPr>
          <p:spPr>
            <a:xfrm>
              <a:off x="357120" y="9284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1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문제분석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8" name="Text Box 6"/>
            <p:cNvSpPr/>
            <p:nvPr/>
          </p:nvSpPr>
          <p:spPr>
            <a:xfrm>
              <a:off x="214200" y="1500120"/>
              <a:ext cx="8643960" cy="344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은 사회문제 해결과 클라이언트 욕구충족 원조활동으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를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분석하는 것이 최우선적 과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조건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.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의 필요성을 확인하는 작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주민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차자료 분석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분석틀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York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0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지 질문에 대한 해답 구하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59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확인되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의 규모 추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확산 정도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가 클라이언트에게 미치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영향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문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문제의 원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통의 정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찬성과 반대 집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역사회의 해결 노력 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69" name="Picture 2" descr="C:\DOCUME~1\USER\LOCALS~1\Temp\UNI000008308f5b.gif"/>
            <p:cNvPicPr/>
            <p:nvPr/>
          </p:nvPicPr>
          <p:blipFill>
            <a:blip r:embed="rId9"/>
            <a:stretch/>
          </p:blipFill>
          <p:spPr>
            <a:xfrm>
              <a:off x="285480" y="5170680"/>
              <a:ext cx="4214880" cy="154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4"/>
          <p:cNvGrpSpPr/>
          <p:nvPr/>
        </p:nvGrpSpPr>
        <p:grpSpPr>
          <a:xfrm>
            <a:off x="285840" y="285840"/>
            <a:ext cx="8715240" cy="6215040"/>
            <a:chOff x="285840" y="285840"/>
            <a:chExt cx="8715240" cy="6215040"/>
          </a:xfrm>
        </p:grpSpPr>
        <p:sp>
          <p:nvSpPr>
            <p:cNvPr id="371" name="AutoShape 2"/>
            <p:cNvSpPr/>
            <p:nvPr/>
          </p:nvSpPr>
          <p:spPr>
            <a:xfrm>
              <a:off x="285840" y="71424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AutoShape 4"/>
            <p:cNvSpPr/>
            <p:nvPr/>
          </p:nvSpPr>
          <p:spPr>
            <a:xfrm>
              <a:off x="357120" y="285840"/>
              <a:ext cx="3816360" cy="50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2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  <a:ea typeface="HY강B"/>
                </a:rPr>
                <a:t>욕구조사 단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Text Box 6"/>
            <p:cNvSpPr/>
            <p:nvPr/>
          </p:nvSpPr>
          <p:spPr>
            <a:xfrm>
              <a:off x="285840" y="1000080"/>
              <a:ext cx="8643960" cy="53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문제 해결을 위해서는 클라이언트의 문제로 전환하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를 다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개념으로 전환하는 작업이 필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프로그램 개발에서는 요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want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보다는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‘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엇이 결핍된 상태로 인해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을 겪고 있는 상황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’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라는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need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에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더 많은 관심을 기울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의 종류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Maslow, Bradsow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분류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60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의 당면 문제나 필요한 욕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삶의 질 또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문가의 필요 등을 사정하는 과정으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확인과 욕구사정을 포함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단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목적과 조사에 투입될 자원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의 확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설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료수집과 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보고서 작성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조사의 방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직접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반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표적인구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층면접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델파이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참여관찰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토론회와 공청회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례조사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비스 제공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자 조사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기관의 통계분석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,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접증거자료법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지표 등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진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욕구가 왜 문제이고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어느 정도 심각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클라이언트 규모는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얼마나 되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그 특성은 무엇인지를 아주 구체적으로 진술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2T00:35:42Z</dcterms:modified>
  <cp:revision>342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